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041-45DE-43A9-A840-1471D938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CA2-DE99-4E09-A652-14C12775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736-B5E2-4E2B-87BF-4AB93F06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DF6-62F3-44F1-9B77-75DC5AA4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21C4-F560-4841-99F3-9627BBF8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420F-4ADD-44CC-981D-62739C23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C0B5-ABD7-487E-B937-F385107A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603D-1B61-4AA2-906B-F45B911F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6D75-0124-47D3-ABD5-2740D1C3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10D8-7E7F-47E8-9052-0B129043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7D04-A458-43FA-8EFE-BC5ACAB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EFA-D533-45A5-ADB5-2809AD27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D474-9699-499A-ADD6-C52E59CC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572-5549-4582-B7EB-92A33422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392B-5A37-4BBA-84FE-827183CE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E48F-AABA-427C-A457-12468011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12A5-538C-4AC7-B464-78C1EA45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0DC-F5BC-44BF-94A5-B70DAFCA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C4E-7674-4737-83CF-840A7EDD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CAF-C071-4870-A412-D220A1AB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1D3-8CDD-4762-9C1F-D1CA0823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AEC-4971-475D-88BF-C2B79FA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467-FC2F-4332-A7E2-2FE8E7C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A1A-7948-4889-8ED3-4BB0F8A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EF0C-E386-45E5-B52D-2C5D364C8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8CFB-61B3-4BEA-A780-7F2FC85F9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993300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133360"/>
            <a:ext cx="548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Електротерапиј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кази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зме се стаклена чаша облика слова "У" и у једну страну стави анода а у другу катода. Физиолошки раствор се затим наспе се у чашу. Укључи се коло константне галванске струје. У сваки крак чаше облика "У" сипа се неколико капи фенолфталеина. У контакту са негативним полом фенолфталеин показује црвену бо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горе описан начин пропусти се галванска струја кроз физиолошки раствор и стави лакмус хартија. У пределу позитивног пола лакмус хартија је црвена, а у пределу негативног пола лакмус хартија мења боју у пл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ралгије, компресивне радикулопатиј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лг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ттрауматска стања где је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интакт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ерна одузето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ња после ЦВИ (обрнута галванизација катода дистално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лузивна васкуларна обољења екстремитета у фазам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о Фонтаине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рбус Раyнау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уматска обољењ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нтра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тални предмети у ткиву (остеосинтезе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ња ко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 на месту где треба да се апликују електро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окална акутна запаље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компензација ср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зир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нзитет об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износи од 0,1-0,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Максимални интензитет на целој електроди не сме бити 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од 3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Он се м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лако изр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нати по форму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маскимални интензи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овршина електр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(интензитет струје п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- зависно од индивидуалне осетљивости пациј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е трају око 20 мин. У једној серији 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е спроводи 10-15 процедура свакодневно, након тога следује пауза 10-15 дана. Неуспеси у терапијским 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цима су последица кратког трајања процедуре или слабог интензитета стру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ецијални облици примен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067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гативна електро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Јонофо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дрогалванске куп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ектрофореза ле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гативна електроли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ва процедура константне галванске струје подразумева контролисану деструкцију ткива каус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м ефектом негативног пола. Користи се несразмера изм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електрода - негативни пол је платинска игла која се уводи у фоликул длаке (козметичке сврхе) или у подруцје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х израслина (тумора), а неактивна електрода је анода вел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е длана или цак и већа. Код депилације користи се интензитет 1-2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2-3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код тумор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5-2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30-6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Поступак је бо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дикације: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трихосис, ве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, келоидни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љак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Јонофоре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Јонофореза је поступак електорлизе негативним полом за стерилизацију канала корена и апликативног дела зуба. Ткивне тецности се крећу као и у другим ткивима доводећи до ефеката полова. Јони 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рзавају оптималн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 у периапикалним ткивима и имају антизапаљенски ефекат и бактерицидни ефекат. Истовремено, са стерилизацијом канала размекшава се дентинско ткиво и на тај нацин олакшава ширење кан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идрогалванске куп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идрогалванске купке се користе за 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површине. Третирани део тела (подлактица, подколеница или цело тело)је преко медијума тј. воде у контакту са извором галванске струје. Према броју када -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а имамо једн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дв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твор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 купке, а за апликацију целог тела користе се галванске ка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а траје као и галванизација 15-2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ерија је најмање 10 процедура сваки дан, а према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ју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и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трајати. Температура воде је 34-36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Индикације су исте као и код галванизације. Контраиндикације су: запаљењ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, фебрилна стања, тешки с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и болесници, тромбофлебитиси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а  кад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е ка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2640" y="3068640"/>
            <a:ext cx="403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галваске струје и хидротерап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струје (фреквенција 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Једносмерна галванска струја се користи као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абилна галваниз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.G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пецијални облици примене галванске струј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негативна електроли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јонофорез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хидрогалванске (хидроелектришне) куп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лектрофореза леко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импулсне струје (ф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Ледуk-ов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Бернард-ов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D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кспоненцијалне струј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warschik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одулиса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кутано уношење лекова по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галванске струје назива се електрофореза лекова. Изнимно се лекови уносе и преко слузокозе (ендоназална електрофореза леков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 се 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унети преко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и слузо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само ако је растворљив у води и ако се лек у воденом раствору налази дисоциран. Електрофореза се заснива на кретању позитивних и негативних јона ка супротно наелектрисаним полов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ittorf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указује на пролаз јона кроз глину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hatzky-e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на пролаз јона кроз свез кромпир, Лабатута оглед кроз мртво ткиво зивотињског порекла, 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Ens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доказују кретање јона кроз зивотињски организа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3708360" y="1716120"/>
            <a:ext cx="536436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033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познатији од свих је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који показује да се фармакодинамско дејство лека не мења при пролазу кроз зиви организам под деловањем галванске стру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е третмана добијамо дељењем број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 конкретни лек са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ном вреднош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струје 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ја је подношљива за третирану особу. Струју 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вамо на дисплеј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 иза друге цифре представља "зарез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пример, ако уносимо витами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аскорбинска киселина) ције је дозирање 10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а на дисплеју оцитамо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(струја коју подноси тај пацијент), тада је време третма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=100:5=20 min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10"/>
          <p:cNvGraphicFramePr/>
          <p:nvPr/>
        </p:nvGraphicFramePr>
        <p:xfrm>
          <a:off x="-468360" y="109440"/>
          <a:ext cx="8712360" cy="699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9440"/>
                    <a:ext cx="8712360" cy="699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67280" y="256500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лектрофореза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еков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62768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France YU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71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и електрицитет (франклиниз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измениш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Струје ниске фреквенције (фр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фарадск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транскутана електришна неурална стимул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N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трује средње фреквенције (фреквенција прек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рује средње фреквенције - интерферентне Немец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Синусоидно модулисане струје (Руска стимул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Високофреквентне струје - фреквенција преко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Д'Арсонвализација (фреквенција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Дуготаласна дијатермија (фреквенција 500.000 - 1.0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краткоталасна дијатерм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TD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фреквенција 10-1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ултракараткоталасна дијатермија (фреквенција 434,78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икроталасна дијатермија (фреквенција 2.45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Галванска стру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едносмерна струја представља облик електришне енергије која у одре|еном временском интервалу не мења свој ток. Ако се при томе не мења ни интензитет ни напон, тада говоримо о константној једносмерној струји, тј. галванској струји. Деловање галванске струје на организам заснива се на особини поларитета, а то условљава примарно физишко и секундарно физиол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 деловање на органи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Облици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нгитудин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а су електроде постављене на крајевима третираног дела, односно дуз екстремит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верз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a се третирани предeо налaзи iзме|у елeктрода (предња и задња странa лакт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Примарно дело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Ан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исел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з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едематоз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агула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фореза сушење тк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ирујуће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Кат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азн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ње осетљивости на б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упљање в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квефак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ва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ва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лаж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дражај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Секундарно делов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23640" y="3933720"/>
            <a:ext cx="60483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тонуса вазомот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тонуса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) модулације бо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) трофике и метабо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144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katarinaparezanovicilic@gmail.com</cp:lastModifiedBy>
  <dcterms:modified xsi:type="dcterms:W3CDTF">2020-09-26T16:57:35Z</dcterms:modified>
  <cp:revision>19</cp:revision>
  <dc:subject/>
  <dc:title>Elektroterapija</dc:title>
</cp:coreProperties>
</file>